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E2E-680D-49C8-A44D-61DF0F5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058-1665-4DE8-9784-D600680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AFB-C99F-4A58-9248-56A89AB8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BE1-BBF2-4633-836F-07E2A20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814-E02C-48EC-B08A-3ED6F003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95A-50CB-48C2-93A9-A4816428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E55-4499-4D5B-B6AA-D2168CB2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DF1-A95F-4454-AD87-79F87DAD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6BD-8357-43F8-822C-21E70DAC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D95-5355-4701-9A28-A6C04DF5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FE5-4182-4E4B-9A59-44D64AC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70A-7EF1-4AFB-9EC2-1B13C16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749C-3BC5-4799-AB6C-03AC2E47F0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3ebf1"/>
                </a:solidFill>
                <a:latin typeface="Arial"/>
              </a:rPr>
              <a:t>Lesson 9.6</a:t>
            </a:r>
            <a:br>
              <a:rPr sz="7500"/>
            </a:br>
            <a:endParaRPr b="0" lang="en-US" sz="75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rdering of elements such that the order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n!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(n-r)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lculate these permutations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3ebf1"/>
                </a:solidFill>
                <a:latin typeface="Arial"/>
              </a:rPr>
              <a:t>We have already done combinations from lesson 9.5</a:t>
            </a:r>
            <a:endParaRPr b="0" lang="en-US" sz="3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A standard poker hand consists of five cards dealt from a deck of 52.  How many different hands are possibl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Eight horses are in a race.  In how many ways can 1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place be awarde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There are 50 numbers in a state lottery.  To win, you must match six of them.  How many ways can a person select 6 number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200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671 (1-15) od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undamental Counting Princi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total number of ways that two (or more) events can occur is found by the product of the number of choices for each ev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How many pairs of letters are there in the English alphabe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How many telephone numbers can exist within one area code?  (Note that a telephone number can’t begin with a 0 or 1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In how many different ways can five girls and three boys enter a room single file if the girls must all go in before the boy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s and Combin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2:27Z</dcterms:created>
  <dc:creator>jnewman</dc:creator>
  <dc:description/>
  <dc:language>en-US</dc:language>
  <cp:lastModifiedBy>abeason</cp:lastModifiedBy>
  <dcterms:modified xsi:type="dcterms:W3CDTF">2009-03-31T13:29:56Z</dcterms:modified>
  <cp:revision>6</cp:revision>
  <dc:subject/>
  <dc:title>Lesson 9.6 part one</dc:title>
</cp:coreProperties>
</file>